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337-EA2D-4CAF-86DB-63B31A99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636-F592-4D03-A5D4-DCE51257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98C-2D40-459B-B293-6D6B39D3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BDF-739C-408F-9699-C19B4EF3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D38-C9DE-4DF8-B247-AF694F81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45DA-E3FB-4F12-A1CC-C3F62FAA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D8A1-0363-44DB-9C73-44C0F47E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590D-A942-4019-8DF7-9E431212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BF23-5CC7-4C53-9F5F-1AB59C85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C98-FBE9-4C54-874D-0F0A149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0870-5280-4164-AD07-C92A920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35C-E657-4862-B5D4-85BE185A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B907-EB26-467A-B3CA-A96F83BE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C964-C294-42DC-957B-05FEF68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9DDD-1531-48A6-8E08-18D365FE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F56A-D90F-42F7-BB08-CEDB6BB5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BD40-BD01-4F06-ACA5-14FAA8B5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87E49-FEAB-4D51-9395-584D7357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EDADD-EC02-49EC-BDCA-A05909D9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FD723-FA79-4749-A1C9-BB493D9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EF9C7-720C-4716-AE74-29AE96E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70603-F0FD-45A5-B252-FA1590FF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3D0-3697-4B90-A09A-2761302A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CA4A5-4660-463A-87BA-3838C9D0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A13E5-6960-4640-9CB4-059C9B83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3E761-5C25-45A3-B0F2-260EEE6F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89C78-3083-4C56-BAD6-DBA8D50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20798-F619-4EEF-90A7-80D142BF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39B54-6FCD-4586-9F5F-E0AF194D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2BD6C-27C4-4769-982E-AEB5A3C1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BBE-14C4-44B4-A1DC-807F26C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19E-A7C7-456E-9A55-86518275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68C-AEDD-4B81-9B28-5324046A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54F-F750-45BA-A443-6C284E4C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065-F067-47F9-83CB-E195E19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F0B-C59F-4300-B1A0-572B379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5692-31FC-44EE-8D85-416304A4CFE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BE5-DA6E-4D49-828B-46B7484B89A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E81A-0EE2-4FC0-93B2-A3E53DCD9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caridad.pontes.name/orquideas%2520oleo.JPG&amp;imgrefurl=http://caridad.pontes.name/calles%2520ciudad%2520e%2520interior.htm&amp;usg=__N10dwuCv8or25CxErU7YAwMS5ZU=&amp;h=957&amp;w=768&amp;sz=366&amp;hl=es&amp;start=54&amp;tbnid=M09x9xNzjbXdfM:&amp;tbnh=148&amp;tbnw=119&amp;prev=/images%3Fq%3Dramos%2Bde%2Bflores%26gbv%3D2%26ndsp%3D18%26hl%3Des%26sa%3DN%26start%3D36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etronor.es/es/blog/cfs-file.ashx/__key/CommunityServer.Blogs.Components.WeblogFiles/petronor/Ovejas-Muskiz3.JPG&amp;imgrefurl=http://petronor.es/es/blog/blogs/petronor/archive/2009/06/17/bien-por-el-queso-de-muskiz.aspx&amp;usg=__yQft5xn3sNN6PSOA_LhWR0FfxFM=&amp;h=1841&amp;w=2672&amp;sz=3805&amp;hl=es&amp;start=27&amp;um=1&amp;tbnid=hcgPDefMXRAxGM:&amp;tbnh=103&amp;tbnw=150&amp;prev=/images%3Fq%3Dovejas%26imgsz%3Dl%26imgtbs%3Dz%26ndsp%3D20%26hl%3Des%26rlz%3D1T4ADSA_esES343ES345%26sa%3DN%26start%3D20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ersonales.mundivia.es/fidalgo/cartas.jpg&amp;imgrefurl=http://personales.mundivia.es/fidalgo/pol%25C3%25ADticos.htm&amp;usg=__kL9h4qzLi3qFtpoULscjFrtku1U=&amp;h=350&amp;w=311&amp;sz=18&amp;hl=es&amp;start=1&amp;um=1&amp;tbnid=jDM12COHa8_woM:&amp;tbnh=120&amp;tbnw=107&amp;prev=/images%3Fq%3Dcartas%26ndsp%3D20%26hl%3Des%26rlz%3D1W1GGLG_es%26sa%3DN%26um%3D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jovialiste.files.wordpress.com/2009/05/don_francisco_de_quevedo-villegas.jpg&amp;imgrefurl=http://jovialiste.wordpress.com/&amp;usg=__QOeZFlgabmhCvkV4XAgGo6fF6AA=&amp;h=1156&amp;w=772&amp;sz=271&amp;hl=es&amp;start=2&amp;um=1&amp;tbnid=JSmaCfbRo3_rjM:&amp;tbnh=150&amp;tbnw=100&amp;prev=/images%3Fq%3Dpoderoso%2Bcaballero%2Bes%2Bdon%2Bdinero%26imgsz%3Dl%26imgtbs%3Dz%26hl%3Des%26rlz%3D1T4ADSA_esES343ES345%26um%3D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100musicalfootsteps.files.wordpress.com/2009/04/master-your-haiku1.jpg&amp;imgrefurl=http://100musicalfootsteps.wordpress.com/2009/05/01/ten-reasons-to-love-twitter/&amp;usg=__5D-_OrcmsW4LaIqHWeD_8w-ibd4=&amp;h=394&amp;w=350&amp;sz=29&amp;hl=es&amp;start=10&amp;um=1&amp;tbnid=ojaYYZaPA_muIM:&amp;tbnh=124&amp;tbnw=110&amp;prev=/images%3Fq%3Dhaiku%26hl%3Des%26rlz%3D1T4ADSA_esES343ES345%26sa%3DN%26um%3D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es/imgres?imgurl=http://www.walpaper.es/images/wallpapers/Paisaje-Japones-818629.jpeg&amp;imgrefurl=http://www.taringa.net/posts/imagenes/2773903/wallpapers-variados-muy-buenos.html&amp;usg=__QmZFgYj4C49l6y0tPcBSt48RTL8=&amp;h=960&amp;w=1280&amp;sz=220&amp;hl=es&amp;start=5&amp;um=1&amp;tbnid=rhMo94X8dtt0wM:&amp;tbnh=113&amp;tbnw=150&amp;prev=/images%3Fq%3Dpaisaje%2Bjapon%25C3%25A9s%26imgsz%3Dl%26imgtbs%3Dz%26hl%3Des%26rlz%3D1T4ADSA_esES343ES345%26um%3D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es/imgres?imgurl=http://www.librodearena.com/myfiles/yany/mariposas.gif&amp;imgrefurl=http://www.taringa.net/posts/imagenes/2089986/mariposas.html&amp;usg=__WHYe-IREba-M0xnOAjimDDVz8_I=&amp;h=1317&amp;w=1122&amp;sz=742&amp;hl=es&amp;start=7&amp;um=1&amp;tbnid=yV1ZofxsnsHzUM:&amp;tbnh=150&amp;tbnw=128&amp;prev=/images%3Fq%3Dmariposas%2Bde%2Bcolores%26imgsz%3Dl%26imgtbs%3Dz%26hl%3Des%26rlz%3D1T4ADSA_esES343ES345%26um%3D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kalipedia.com/kalipediamedia/lenguayliteratura/media/200704/18/literaturauniversal/20070418klplylliu_14.Ies.SCO.jpg&amp;imgrefurl=http://www.kalipedia.com/fotos/erato-musa-poesia-lirica.html%3Fx%3D20070418klplylliu_14.Ies&amp;usg=__EVqjyTMPEq9Dg6LqxTECEqCzFlo=&amp;h=407&amp;w=267&amp;sz=52&amp;hl=es&amp;start=1&amp;tbnid=zzPODYC8DY6NDM:&amp;tbnh=125&amp;tbnw=82&amp;prev=/images%3Fq%3Dpoes%25C3%25ADa%2Bl%25C3%25ADrica%26gbv%3D2%26hl%3De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brosvivos.net/smtc/homeTC.asp?TemaClave=1116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osvivos.net/smtc/homeTC.asp?TemaClave=1116" TargetMode="External"/><Relationship Id="rId2" Type="http://schemas.openxmlformats.org/officeDocument/2006/relationships/hyperlink" Target="http://www.palabravirtual.com/index.php?ir=ver_voz1.php&amp;wid=1048&amp;p=Juan%20Ram%F3n%20Jim%E9nez&amp;t=El%20pozo&amp;o=Laura%20Castanedo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img.papelenblanco.com/2008/10/poesia.jpg&amp;imgrefurl=http://www.papelenblanco.com/poesia/la-poesia-me-parece-una-estafa&amp;usg=__YzmAwru-YDNRf_FXUl01Y6e8RQQ=&amp;h=320&amp;w=286&amp;sz=23&amp;hl=es&amp;start=3&amp;um=1&amp;tbnid=wOeAMZ-8_3YhHM:&amp;tbnh=118&amp;tbnw=105&amp;prev=/images%3Fq%3DPoes%25C3%25ADa%26hl%3Des%26rlz%3D1T4ADSA_esES343ES345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maxalvarez.files.wordpress.com/2007/11/naturaleza22.jpg&amp;imgrefurl=http://maxalvarez.wordpress.com/2007/11/28/%25C2%25BFquien-debe-controlar-el-agua-por-max/&amp;usg=__WlfXk6XsFD33Cqc7U2I5aSFBmGA=&amp;h=768&amp;w=1024&amp;sz=226&amp;hl=es&amp;start=48&amp;um=1&amp;tbnid=ctVvEgy4V1tHJM:&amp;tbnh=113&amp;tbnw=150&amp;prev=/images%3Fq%3Del%2Bpoder%2Bdel%2Bdinero%26imgsz%3Dl%26imgtbs%3Dz%26ndsp%3D20%26hl%3Des%26rlz%3D1T4ADSA_esES343ES345%26sa%3DN%26start%3D40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api.ning.com/files/N0tLbIe3-vxM6ZBvfTyemDr9qwRyfJ3rfal70X6zVbKajaVhCv7EAUmZ7ZUVoOvYfBVJsN4p52ZejLSzyMvlVzuwBj45YGQY/El_sol_bandera.jpg&amp;imgrefurl=http://bloguerosrevolucion.ning.com/profiles/blog/list%3Fmonth%3D03%26year%3D2009&amp;usg=__q6XKIfivKYmPgnemK0vZFDT5wSY=&amp;h=399&amp;w=400&amp;sz=22&amp;hl=es&amp;start=59&amp;um=1&amp;tbnid=m68SNGFzpg5P5M:&amp;tbnh=124&amp;tbnw=124&amp;prev=/images%3Fq%3DSOL%26ndsp%3D20%26hl%3Des%26rlz%3D1T4ADSA_esES343ES345%26sa%3DN%26start%3D40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iaramelomensagens.no.sapo.pt/MENSAGEMVALENTIMCASALCORACAO.jpg&amp;imgrefurl=http://universoanitabeige.blogspot.com/2007/02/dia-de-los-enamorados.html&amp;usg=__bmF-reR6eExa_mnOxZ7G32TvjNk=&amp;h=427&amp;w=494&amp;sz=23&amp;hl=es&amp;start=8&amp;sig2=MYVH7GbpvhqQ2H1W7CNRlg&amp;tbnid=j5Ao_NKNM_pHGM:&amp;tbnh=112&amp;tbnw=130&amp;prev=/images%3Fq%3Dpareja%2Bde%2Benamorados%26gbv%3D2%26hl%3Des&amp;ei=9_QES-XgLoOimwOu1JiNC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403280" y="2133720"/>
            <a:ext cx="56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La líric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1" name="11 Reverie.mp3" descr=""/>
          <p:cNvPicPr/>
          <p:nvPr/>
        </p:nvPicPr>
        <p:blipFill>
          <a:blip r:embed="rId1"/>
          <a:stretch/>
        </p:blipFill>
        <p:spPr>
          <a:xfrm>
            <a:off x="4067280" y="-531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orquideas%2520ole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14479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1476360" y="33336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Églog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42920" y="2133720"/>
            <a:ext cx="62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345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a donde el poeta expresa sus sentimientos amorosos puestos en boca de pastores, en un paisaje natural idealizado que se puso de moda durante el Rena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ÉGLOGA I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200" spc="-1" strike="noStrike">
                <a:solidFill>
                  <a:srgbClr val="3b812f"/>
                </a:solidFill>
                <a:latin typeface="Arial"/>
              </a:rPr>
              <a:t>El dulce lamentar de dos pastores, Salicio juntamente y Nemoros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3b812f"/>
                </a:solidFill>
                <a:latin typeface="Arial"/>
              </a:rPr>
              <a:t>    </a:t>
            </a:r>
            <a:r>
              <a:rPr b="0" i="1" lang="es-ES_tradnl" sz="2200" spc="-1" strike="noStrike">
                <a:solidFill>
                  <a:srgbClr val="3b812f"/>
                </a:solidFill>
                <a:latin typeface="Arial"/>
              </a:rPr>
              <a:t>he de contar, sus quejas imitando; cuyas ovejas al cantar sabroso estaban muy atentas, los amores,  (de pacer olvidadas) escuchando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b812f"/>
                </a:solidFill>
                <a:latin typeface="Arial"/>
              </a:rPr>
              <a:t>                            </a:t>
            </a:r>
            <a:r>
              <a:rPr b="0" lang="es-ES_tradnl" sz="2200" spc="-1" strike="noStrike">
                <a:solidFill>
                  <a:srgbClr val="3b812f"/>
                </a:solidFill>
                <a:latin typeface="Arial"/>
              </a:rPr>
              <a:t>Garcilaso de la Ve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653000"/>
            <a:ext cx="2159280" cy="1482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47636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Epístol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042920" y="2133720"/>
            <a:ext cx="62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25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a que aborda temas filosóficos morales bajo la forma de ca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40000" y="1628640"/>
            <a:ext cx="500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33"/>
                </a:solidFill>
                <a:latin typeface="Arial"/>
              </a:rPr>
              <a:t>EPÍSTOLA MORAL A FAB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Fabio, las esperanzas cortesa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prisiones son do el ambicioso mu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y donde al más activo nacen ca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el que no las limare o las rompi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ni el nombre de varón ha merecid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ni subir al honor que pretendie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33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6633"/>
                </a:solidFill>
                <a:latin typeface="Arial"/>
              </a:rPr>
              <a:t>Andrés Fernández de And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500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547640" y="33336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Sátir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5128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OSO CABALLERO ES DON DI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Madre, yo al oro me humillo,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Él es mi amante y mi amado,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Pues de puro enamorado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Anda continuo amarillo.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Que pues doblón o sencillo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Hace todo cuanto quiero,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Poderoso caballero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Es don Diner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ancisco de Quev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a habitualmente breve de tono burlesco, en la que el autor  censura vicios, individuales o colect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149720"/>
            <a:ext cx="1289160" cy="1932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20000" y="4437000"/>
            <a:ext cx="1908000" cy="169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147636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Haiku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ve composición de tres versos, de origen japonés que desarrolla un tema enraizado con la natural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600" spc="-1" strike="noStrike">
                <a:solidFill>
                  <a:srgbClr val="990033"/>
                </a:solidFill>
                <a:latin typeface="Arial"/>
              </a:rPr>
              <a:t>Sobre la rosa</a:t>
            </a:r>
            <a:br>
              <a:rPr sz="2600"/>
            </a:br>
            <a:r>
              <a:rPr b="0" i="1" lang="en-US" sz="2600" spc="-1" strike="noStrike">
                <a:solidFill>
                  <a:srgbClr val="990033"/>
                </a:solidFill>
                <a:latin typeface="Arial"/>
              </a:rPr>
              <a:t>es trozo de arco iris,</a:t>
            </a:r>
            <a:br>
              <a:rPr sz="2600"/>
            </a:br>
            <a:r>
              <a:rPr b="0" i="1" lang="en-US" sz="2600" spc="-1" strike="noStrike">
                <a:solidFill>
                  <a:srgbClr val="990033"/>
                </a:solidFill>
                <a:latin typeface="Arial"/>
              </a:rPr>
              <a:t>la mariposa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933720"/>
            <a:ext cx="197964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501336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4076640"/>
            <a:ext cx="12193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590560" y="400536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La lírica es el género literario en que el autor expresa en primera persona sus sentimientos y emociones empleando un lenguaje especialmente sugerente  y elaborado, principalmente en verso. Nació de la costumbre de acompañar con música (lira) las actividades di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547640" y="2276640"/>
            <a:ext cx="617868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Concepto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5" name="Picture 12" descr="20070418klplylliu_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97000"/>
            <a:ext cx="78084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7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22900"/>
                  </a:solidFill>
                  <a:miter/>
                </a:ln>
                <a:solidFill>
                  <a:srgbClr val="ff99cc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Características</a:t>
            </a:r>
            <a:endParaRPr b="0" lang="en-US" sz="1800" spc="1" strike="noStrike">
              <a:ln w="9360">
                <a:solidFill>
                  <a:srgbClr val="522900"/>
                </a:solidFill>
                <a:miter/>
              </a:ln>
              <a:solidFill>
                <a:srgbClr val="ff99cc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eveda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los textos líricos suelen ser breves pero inten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líric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 narra una histori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con personajes situados en un tiempo y espacio, sino que ofrece una emoción determin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ortante presencia de l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unción  expresiv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pues el autor transmite un estado de ánimo y expresa sus sent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ominio de l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unción poé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l lenguaje, pues presenta un lenguaj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esviad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es decir, distinto del habitual, para sorprender al lector y buscar la belleza del mens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función poética se manifiesta a través del uso de las </a:t>
            </a:r>
            <a:r>
              <a:rPr b="0" lang="en-U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figuras literaria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(aliteraciones, paralelismos, metáforas…) que enriquecen el texto en los tres niveles lingüísticos: fónico, morfosintáctico y léxico-semán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mpleo de la </a:t>
            </a:r>
            <a:r>
              <a:rPr b="0" lang="es-E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versificació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utiliza versos organizados en estrofas que se repiten periódicamente según unas normas formales que dicta la métrica.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verso facilita la aparición de otros elementos como e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ritm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usicalidad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 veces, sin embargo, los textos líricos están en prosa: es la llamada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sa poétic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cultivada, por ejemplo, por G. A. Bécquer o </a:t>
            </a:r>
            <a:r>
              <a:rPr b="0" lang="es-ES" sz="2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J. R. Jiménez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l lenguaje empleado es connotativo y plurisignificativ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 Todo ello exige un esfuerzo de interpretación al lector, por lo que la lírica se ha considerado a veces como un género para minorí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lírica admite un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gran variedad de temas y formas y de tonos e intencion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irónico, satírico, reflexivo, comprometido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403280" y="2133720"/>
            <a:ext cx="56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Subgéneros líricos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716280"/>
            <a:ext cx="170496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547640" y="26028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Od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03640" y="1557000"/>
            <a:ext cx="6300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</a:rPr>
              <a:t>ODA A LA VIDA RETIR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¡Qué descansada vida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la del que huye del mundanal ruïdo,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y sigue la escondida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senda, por donde han id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los pocos sabios que en el mundo han sid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        </a:t>
            </a: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Que no le enturbia el pech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de los soberbios grandes el estado,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ni del dorado tech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se admira, fabricad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del sabio Moro, en jaspe sustentad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Fray Luis de Le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ema de cierta extensión y tono elevado, principalmente de contenido ascétic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292640"/>
            <a:ext cx="244296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476360" y="404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Himno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42920" y="2133720"/>
            <a:ext cx="62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ema solemne destinado al canto que expresa sentimientos patrióticos, religioso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HIMNO AL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Para y óyeme ¡oh sol yo te saludo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y extático ante ti me atrevo a hablarte: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ardiente como tú mi fantasía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arrebatada en ansia de admirarte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intrépidas a ti sus alas guía.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¡Ojalá que mi acento poderoso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sublime resonando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del trueno pavoroso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la temerosa voz sobrepujando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¡oh sol! a ti llegara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y en medio de tu curso te parara!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(José de Espronce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14172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716360" y="1699920"/>
            <a:ext cx="526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EGÍA A RAMÓN SIJ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 quiero ser llorando el hortelano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 la tierra que ocupas y estercolas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añero del alma, tan temprano.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imentando lluvias, caracole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 órganos mi dolor sin instrumento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las desalentadas amapolas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ré tu corazón por alimento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nto dolor se agrupa en mi costado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ue por doler me duele hasta el al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 manotazo duro, un golpe helado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 hachazo invisible y homicida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 empujón brutal te ha derrib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 hay extensión más grande que mi herida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loro mi desventura y sus conjunto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 siento más tu muerte que mi vida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guel Hernánde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Elegía a Ramón Sijé"/>
          <p:cNvPicPr/>
          <p:nvPr/>
        </p:nvPicPr>
        <p:blipFill>
          <a:blip r:embed="rId1"/>
          <a:stretch/>
        </p:blipFill>
        <p:spPr>
          <a:xfrm>
            <a:off x="1258920" y="2421000"/>
            <a:ext cx="2746440" cy="374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ema que expresa el lamento por una desgracia, especialmente por la muerte de un ser quer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47636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Canción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oema de extensió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variable de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incipalmente amoro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505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NCIÓN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Si a la región desierta, inhabitable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por el hervor del sol demasïado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y sequedad d’aquella arena ardiente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o a la que por el hielo congelado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y rigurosa nieve es intratable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del todo inhabitada de la gente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por algún accidente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o caso de fortuna desastrada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me fuésedes llevada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y supiese que allá vuestra dureza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estaba en su crüeza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allá os iria a buscar como perdido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hasta morir a vuestros pies tendid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0" lang="es-ES_tradnl" sz="1700" spc="-1" strike="noStrike">
                <a:solidFill>
                  <a:srgbClr val="990033"/>
                </a:solidFill>
                <a:latin typeface="Arial"/>
              </a:rPr>
              <a:t>Garcilaso de la Vega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429000"/>
            <a:ext cx="1944720" cy="167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6:23:24Z</dcterms:created>
  <dc:creator>Jose Antonio</dc:creator>
  <dc:description/>
  <dc:language>en-US</dc:language>
  <cp:lastModifiedBy>JOSE ANTONIO</cp:lastModifiedBy>
  <dcterms:modified xsi:type="dcterms:W3CDTF">2009-11-26T19:22:38Z</dcterms:modified>
  <cp:revision>90</cp:revision>
  <dc:subject/>
  <dc:title>Diapositiva 1</dc:title>
</cp:coreProperties>
</file>